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D57-73A5-418C-A49C-4CB3C599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5AC-19F3-47FC-A2B5-CF0796B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364AE-F891-48A9-8927-DDBA5D12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7D613-1F72-4A47-8F9C-DC2538C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EFFA7-1FB5-45A7-B09B-9897377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A4566-4280-45DA-835B-8590008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147C0-66F6-49A0-8E83-417F24B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71D9-297B-4C44-B26A-4F44F28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2BFD4-975E-4194-9900-E8EC993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363ED-76A2-4E71-8231-77F23D2A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57D13-9680-4E5C-AD9E-CA0D010D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5D6E-0561-4586-8E4D-9096EBE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400-802B-4935-849F-18AB862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1D429-D83D-4755-A7E5-D33491E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C8D19-EDE2-4FFF-8A20-CAB0BAB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F8E6C-E43D-4311-BC25-92A5F145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135DC-D2AD-42C2-AE7A-85186E9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6D71-91DF-425F-AC8A-294250D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FE4A-167F-41F6-B7EB-94D6827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9C37-8CB0-4017-8A16-1E471A2B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8C071-B9E9-431C-9F67-4443790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B716E-DD4A-4684-A054-3C7C320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84EE-AC2F-441F-B162-995D65FC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1C6-9BFE-4689-99B7-D33272F1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3E0D6-2DE1-4FFC-9140-E651836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470B8-752B-4284-B73B-38952741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5BF85-5B1A-40E7-BB6E-F5871E0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BA07A-4003-44D9-918E-8B01530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6A008-BC2D-4873-B789-CF08BFDB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97E47-83B6-4F40-859A-4D9A012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F0FC9-236A-4AED-8AAD-E3D54C7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44D4-B938-4027-98ED-903F6F0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2DDB5-2C24-4647-96AA-2C7EC99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15F2A-EBBD-400F-9EB0-42E887F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B4C-1DB6-45B4-A03E-6BC3E8A1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E3C31-958F-41D0-9CA4-614B1B72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9920-E9B0-4FF9-A98C-356D58E7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52501-9F2B-4F25-A75D-8F8F3E6B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80349-D404-4B6E-BA20-5AFA5595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CA8AB-DFAA-466E-804F-C251761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7352B-9316-4DB0-854E-14DDFE49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7280-ABB2-4F4C-8BAD-EE35F9D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587DC-3365-44B5-B24B-35DB603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009E-8711-4A43-B9D1-D5914F6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29DF7-F8E4-4786-AAF5-D357007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4DD4-E6F4-4FD2-9A2A-4AA3F24F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E6AC0-5343-4419-AC10-518E83C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82DE7-0614-4209-8B61-A87D2CF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E77C-8F2C-48B0-8A6D-097736C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6D4FE-0CE2-4DAA-AB97-F58E4F6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C2CFC-8248-449F-A0C8-8D96C949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B6588-921F-400D-A1B3-26BD23ED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08C93-DDFA-46EA-BA9D-00635A7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4C6FE-9230-4D43-BFC8-62AC6D6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4F695-11E5-47A9-BA8A-42C5E45D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82D38-5AE0-49E4-842C-5506537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381-F090-46A5-8B0A-8B278DEF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EA78D-2107-49F0-A13F-E124749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39BC6-D1FD-48E2-B8E1-346C0DB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E50BD-0D39-45C1-A9D3-AAC7736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308BA-D108-4BEF-84A7-57D4E5A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9C555-845A-49D8-9D15-321F955F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ED06D-1DDE-4CBF-BD29-DF21D6D9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A97BE-1168-409B-8C55-7F033AB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2BCE3-CDAA-45B1-A266-405EE276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7C05A-63CF-420F-8805-8FC96BA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FB86C-11D9-4A13-B61A-031D69FB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064E-6A98-4B58-87D3-404142C8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0E295-CCA4-401C-B98C-3D19223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AF49E-951D-4DE5-8BBF-9DE7CB6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E12CA-3899-4EB6-9A7C-5C5F9BC0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A88F1-8A4D-4975-9DA4-04444E4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ADE42-47E6-4457-BEBB-AFDA504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1D1D8-D7E6-4385-8833-4125E6A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D01CC-CEBA-41DC-A344-24E28BBA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5D7E-87D5-44AD-906C-AA7E2F5F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2EEB6-FD3B-4834-9C1D-64377CED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65D68-63F5-4319-9395-0B05DDEC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BD3C-C8EE-4EAE-A76E-DFF11F3D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EF955-2CFE-4425-A6C4-88D8EBD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20CC5-FB95-4D86-B53A-2645949D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C8E5B-0051-4607-A62E-3097BFF6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8EC71-83BE-4409-8568-C0C95D1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5B6D0-494F-42B0-9509-55AA461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5FC1E-BA1A-4C95-9282-952A095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4EA42-BD2E-4C20-947D-99AB45F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CE439-8709-41A4-8B52-E786859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A1376-ED76-476A-8F37-6C154D4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C1BAD-AD94-4EA0-B542-C2EABCBD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3951-03A8-4520-954F-E7ECC82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5E64C-C4D0-435F-89A3-2E1DDE18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BB5AE-CDA3-4A52-8BB9-D017D63A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F731E-FCDA-41C6-A8D5-93EDFF0D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CA2A7-B0CD-4AFA-8B14-1B76E32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FF79F-F311-4328-8567-D4A1A1A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A2D33-C4D3-439C-A43A-8D1D550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F9D0A-4B5B-4F76-B375-4806CB1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A4EA7-62C4-437C-A86F-FB84B45C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5BC56-5D65-419C-BEAF-E9B652E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92B44-22DF-4073-8FCD-49F8FAE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35B-4863-4739-A0D0-0D673A2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7A00C-1903-4309-A65C-6BF76D9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561FB-C104-47F5-9FA5-EAAAB6EE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85206-0784-4700-A152-0B7B5B73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D7AC6-8896-47AA-9B8B-E2E3154F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6B8A5-F918-4130-A99B-2B870D7B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B6577-8E85-4BBA-9124-C19508E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2829B-B81D-4943-A856-2866E0C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DA8A5-EB44-421C-9034-5EC45F6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7312A-C19D-4355-AD96-9855CA6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7C217-5D39-4EE9-AFAA-F172748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D6E-A777-41DB-93DC-404A4A2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286E-ACAF-42C7-853A-305831C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85E8A-809B-40A6-9BD1-93CD2CD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77730-6FF7-4ED9-BD0D-61A50E5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186DA-A711-4CE9-B5E2-BD58480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D2237-68A0-46A0-95B8-D094AE58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603B1-069E-497D-BD44-51DFEB3F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42FA5-C27C-45A4-93E9-D529118F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A6AC7-8E91-4147-B6A1-B810315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B8DC4-B737-462A-965F-C603D7E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36356-B2A1-457C-8C04-3671509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C3103-926F-4A90-9C62-52C1B62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1CC-B365-4B9C-8D1B-E84B96E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B6E28-878E-4DAF-880A-A46D177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A5ACB-395F-45DC-BD77-95A8CA8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32660-7677-4E4B-A782-0056B8E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B293C-B617-4953-81C8-4A9A353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90E0B-DBA6-43B2-BCAB-12593A4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BE33C-FF32-46D8-892D-C4B5DFA6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5082C-8E93-4D78-970D-5A0047C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AC118-7599-47A3-BA6C-8AF5A25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A1AFD-4612-40C7-BB3A-0A275B0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04B86-21DF-447D-B8CE-28A4A6F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B59-797E-41AC-A3DA-2E55B8F8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0EA68-C3E0-42E2-B52D-D225B95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05134-901E-4D3F-AACE-294820A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7B3B7-91BC-40A4-8A5E-5408939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F0113-1B8E-4C0A-ACDB-8A76086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1E221-7D1B-433C-94E3-60B3AB4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7533D-9EA1-4CBC-9E82-72515E0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986F6-A2A1-46B8-93B0-ABC69619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A9F60-FA2C-4594-8402-127C3775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6AE32-B08E-4AD2-A109-0FAE8943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E412-611B-4CAA-BE51-FBFE2735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B99-FD66-4488-9FC7-DB78996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94C0-416E-4DB9-A9D2-21F26D2F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B037-1DA6-485B-9AF9-F347C92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886D-2DD1-452B-9EB8-CCABAE4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B9E7-D28A-49B2-921D-923CAEB1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172D-02CB-4E9A-8D63-BB8088DC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690-98B7-47FE-B814-E657C52D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0CE2-F569-49A5-8F54-5652BBF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D6D6-B7C6-420F-AA5D-4F9A683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7BD7-46A4-4372-9BF9-9C0ECC1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25AD-0BCB-4A92-A214-FD8156D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4E5D-10AC-4FB1-92E0-9760173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1A88-829E-4C11-B45C-5C60BF8F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547E-851B-4055-B079-CD57E4B9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A7C6-6C84-4928-89E5-D23EB892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B15B1-F298-4B94-BB57-3B22546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0390-EF63-4029-87B8-E9E9C36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451-AB6E-4753-9761-B161C63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5FF5-4924-44AD-9E29-AFDBAA4F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F85D-BEB0-4F1F-8918-2541506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0446-BFAC-4723-BA75-98D2EF10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6B9C-4BA6-4536-9D7E-FA3B8C6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BF91-C635-4173-82C8-5790B2B2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5D62-D9DA-4E9E-9E3E-D4F6CE9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BFEA-36A9-4E73-BB81-F09928C3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F08C-1FD7-4F99-B27A-2F2A17A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7D43-E9B0-41C1-8D56-28F8CC34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4B9C-990E-445D-B9D3-ED1B81E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E2D-E743-46D0-9944-9EEC1C6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51FA-2133-4A9F-BD00-CE8AEF6F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ECF2-CA9C-4F0C-BA31-DC544639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F8B9-2097-45D5-82B8-F4A7644A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4066-1EE2-4484-8C1A-CF49F80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AF67-9316-4B92-B861-A7F7C08E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6779-5B07-412E-9E8B-3949DEE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EFC0-8652-4765-A708-DDFC2D2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3660-DCBA-47BA-8AD9-74F89E5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33704-E718-461B-B6C9-426FAA2D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911B-C550-4A72-BD5D-EC8C2C41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DB3-C764-4DCD-8B6F-B4D72CFE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5001-B43A-4476-BE59-E301E3E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A1F7B-04C9-4CA5-8197-8A63286E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3EFF-EB0C-4F31-BF0D-66E2F75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AF57-98FC-4F6E-967E-7132F8E0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1B813-2D46-43B4-A9CA-241F791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78AC-615B-44E9-BDFC-E7978F6A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2785-102A-4C85-9616-F8E5E37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41521-1F7C-4002-AE1D-30E3F19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7199B-39C6-4943-97FA-3F526AD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1DD2-8C95-485A-9E96-AF4FAB0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AE4-6030-49C0-81E7-79DC052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C961-FBC0-443A-B9CE-26338DB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F07B-F1E4-4820-956E-A9D1E8BD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C23D-9E95-4BE8-A415-F3260364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442B-F489-4016-855F-51D2DCE2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67B5-13D9-4CA9-87C5-AC4891BC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650B6-E222-4BA7-8164-680E635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E988-0E94-4C25-8034-B6101597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CC7A0-168E-4115-BBD6-BDFC6AB1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5144B-215E-4A6A-B1EE-2A7E175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0C2A-0E90-4AFA-9D37-DEF695C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E05-8ECC-4DFF-A508-A4F60BF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D8E1A-A36F-4FCD-952F-6DC450B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E739-079A-45FB-BDA6-951EA51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D47F9-0523-4763-8FA3-A84FA6C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B708-EBB7-408B-84C2-C2DAE3E1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ECFD-9306-4F85-AFF3-55B4894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6246-673E-4416-B2D7-1178BCCF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ABA31-18CA-4B09-8602-7015078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1EEF-77D7-4F85-A54A-B960FB05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2DA4-C672-4559-9860-31AD331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1D2D-46CC-4DBC-928E-273B25AF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31E-2DB4-472A-94A1-F2206C2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2A94-354D-4780-86EA-23B79A1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0F0F7-91B3-4ADD-B6B9-7C8825A3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1644-45AE-4881-93A7-ADC1C99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CC45-F0C1-4DD6-BB67-813D88C1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6D407-E105-4FC8-A33E-3D2AE13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22D5-DABA-40FE-AC62-7317F5F3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5FAF-449D-4481-BD68-641A52A7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79CE6-BA60-423B-9205-BBFE3543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C0600-4FAE-42E5-ABB5-AF071F98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D9994-DEBC-4087-A907-53DA1A6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273E-0351-42F4-BE14-63E06288E36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CE08-E70A-4F14-BD70-6945A14E65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9A7-204B-45B0-8C01-A92CE7B8969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964F-E544-4E9A-B35D-30CF08CC49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A64-B132-480A-BAD8-44B6C590EFC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DB9-3C3D-4190-A318-DA411084E9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98EB-17A8-4201-B85D-6FA2224890C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AF6-874D-4F02-A631-7FBFB19741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C82A-C140-4F0F-A9CF-B925B1D516E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3355-672F-4104-BA3B-10974566CA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FBE-8B03-4133-8FBF-AF448DE3469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D6F-AC6A-471F-A79D-77B6679C1A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9849-9726-42A0-89FC-A85C722A449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AC6-84FB-4AA4-BF10-715C9D1146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2BE5-79BD-48AE-874E-CCF7E63F508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3C0-7743-4C3A-AA3F-C3CCBF14D4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1F2-E6C6-4BB0-9FBD-7BCD1E3C2AF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EBF7-0CD6-4E10-95AC-2550B5E9D9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179-AD85-4F49-A1D3-D6CF3622C4A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875-26EA-462D-9751-F85BAAB2DE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8AA-C956-424A-9999-8D81B8831A5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C039-EF3F-4413-9C65-17B7B4419D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4262-BACB-456E-A909-EC51080AB21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558-33B4-4D1A-A90F-5D3D6D2D55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286A-CEEB-403B-998F-FEE606D5108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A54-980C-4CC6-8A34-2755E0E015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CA2E-9FF4-4F72-B7D4-9B516A23B70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333-8FA2-4944-A5AF-BC51C9D55B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9F2-FD4E-486B-B9EC-A18F22AA15C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A435-4CAD-4464-9F43-3BCB5D96DC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F498-2E6A-4E00-A039-E02CB6EDF5B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BDE-B430-466B-9F3F-CF6EA61C3A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0AD-F2DA-4CC6-A0B1-FFC8F40FE7D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191-F7CD-41AD-988B-C7CBFF9C2F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862-F110-447A-B522-F63910CCFD3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D3D-F0DC-457A-BE1E-DDBB4D12EAE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720F-B026-4D7C-8382-40FAD668D85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3D1-7F66-4DE1-B215-5B23B5F7F0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4E7-669D-4D2E-A5E6-253C6F63D97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B7DD-6C16-4BE1-808B-7612D7CB7B8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74C-4393-4E88-A564-8F9D367AD89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B4E-90E1-4706-A06C-34AE1DD8C39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175-C98D-4BE1-AB2F-8D0F3D0639A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A52-9EBD-4C9E-8B6D-69C5BBA562F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C06-DA2D-4504-8FF5-35F815A0A6F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AAF-0229-42AB-B2E4-8E424F98B28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5C43-DFEE-4466-8ED4-8AEE15D2D7D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1372-DE97-4DB2-8D28-493A0393FB7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A003-FC19-420B-9068-0E84AD8C7BE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C786-9D1C-4613-B8CA-B05563E1560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536-68BA-4E1A-8FC9-8899A724A4E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C60-FC74-4151-8D84-16B27CE749F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D8D6-5A89-4B38-9A93-854174F786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31F4-0E8C-4EDC-A75B-136BB3DBF50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38B-B98B-4CDE-AA91-EF921849EB8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0F5-319A-432C-90F5-7874A51EA90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CF56-43A3-40B0-B3E2-02DFBA96CA1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ethel</cp:lastModifiedBy>
  <dcterms:modified xsi:type="dcterms:W3CDTF">2015-05-08T12:53:12Z</dcterms:modified>
  <cp:revision>170</cp:revision>
  <dc:subject/>
  <dc:title>Presentación de PowerPoint</dc:title>
</cp:coreProperties>
</file>